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F70-9F21-4E7D-9C31-FC0ED4AB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45C-1D93-4A10-A9E8-C47D2AF8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CB9-97BD-407D-9D7F-F7B40A95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73A-EC9A-4D82-AFBD-A4F03FB4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3DD-360C-40BE-907B-45CE5212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027-5330-4F87-AC9B-3B28437C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584-9923-484D-8003-265FCE3D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A18-A049-4367-A66B-F361EF5D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0A1-0E26-4A7D-AE17-4A42E98B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5EE-0F18-4BC2-8693-DAED5446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012-9F90-49E8-86AC-008427B9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0C8-254B-46B8-98A9-16B03DF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A62F-3012-493C-B61E-A15BD5E2F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066680"/>
            <a:ext cx="914400" cy="91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590920"/>
            <a:ext cx="9144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" cy="914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638680"/>
            <a:ext cx="91440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7086600"/>
            <a:ext cx="914400" cy="9144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1219320"/>
            <a:ext cx="533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743200"/>
            <a:ext cx="5331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4267080"/>
            <a:ext cx="5331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791320"/>
            <a:ext cx="533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7315200"/>
            <a:ext cx="5331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1143000"/>
            <a:ext cx="397800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ful  because he wants to know if his family saf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438280"/>
            <a:ext cx="39783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traordinary because he took chances and escaped from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4191120"/>
            <a:ext cx="3978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 gave up for his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5715000"/>
            <a:ext cx="397800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gnized because what he did was amaz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7238880"/>
            <a:ext cx="397836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ng when he was separated from hi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8400" y="30492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Box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048120" y="8458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79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23:23:09Z</dcterms:created>
  <dc:creator>Stephanie Sproul</dc:creator>
  <dc:description/>
  <dc:language>en-US</dc:language>
  <cp:lastModifiedBy>ssproul</cp:lastModifiedBy>
  <dcterms:modified xsi:type="dcterms:W3CDTF">2011-08-03T18:41:32Z</dcterms:modified>
  <cp:revision>16</cp:revision>
  <dc:subject/>
  <dc:title>Slide 1</dc:title>
</cp:coreProperties>
</file>